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7B96-B460-4FA7-882D-5DEDC38647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B033-973D-46D4-BA63-BE7D440884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CBF-30C4-40F7-92E5-6074986533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32F-E085-43C8-872A-9C5B188B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28F-84A9-450E-AB9D-E70622CE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A53-3C8A-4139-A995-C2DCE105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BD5-F5C3-4C5A-9175-E32BD3CB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9F3D-FC2F-4C29-9354-B3E186E9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255-6CD8-47C3-A64F-DDE479E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6B8-A03D-4C6D-9032-B2D4ADC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78CB-FAC0-4E58-9376-4136D8D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B7A3-B735-4ADF-A73F-2B606C4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045-4A89-45CB-9B92-6B30D57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377D-383D-4DB4-9949-D18F330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C30-9CBA-44CE-B92D-726FE83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8F5B-9CC1-4945-9FAB-7A510E6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51AE-162F-4725-A47F-548977D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1F0-D478-4DF0-BB9C-90585EE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660-8266-4945-BD56-27779EE1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5F8-BD7E-451F-B71D-B9418D22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3733-8A6A-4331-A902-DDF661DE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9CCE-B64D-40A8-B4EA-631DD65C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17C4-8BCD-4F1A-8257-4489BCD8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35AE-232C-43B4-9C5C-09A78574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FF13-BBD3-44CB-8A44-1E2B670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A17-AF2F-423E-A20A-5A2B564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04B0-1BEA-4811-8082-0020396B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8B64-F28A-419C-AF95-9829979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1839-12CF-4DD4-AD10-068D624F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8D30-2C5A-4492-9BE1-67D7968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45F5-396B-4AE9-B7F5-B5C4DD3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A2E6-028E-41E9-9F0C-6EA1C30C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99A8-432A-4718-85E8-4B3CD591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E054-D528-4E68-9F04-0257A2B4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B3E6-F37B-4F93-8E16-DF88477C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3992-3BA4-4B32-9CB2-236DE4D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38F-AFA7-4ADB-947E-398E9C50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BE79-0954-43D0-A7CD-1F6EB98A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604B-0D2D-4C83-97D5-B0A285E7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67F7-A890-4374-BBFA-715E9DE4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A06E-66D8-4536-80A0-69DCD10F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4A33-1B9A-488C-92BB-5991517D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586F-8F67-492D-A01C-5B7D2CA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CD85-D4E7-40CB-B0CB-EB5AD924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0A62-1B50-49AB-9B37-FC243A9F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706A-2836-408F-B4BA-B34EA777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AF9B-4654-4852-8C99-1F5E7006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6ED-3EDE-4FCA-BAF0-2C0525A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78733-72F0-4E83-AA09-B4A0B8D3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FC9C-0179-45F6-B2C9-14F25C69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1663-3824-45B4-85FA-3F3D1654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364B-0410-478E-8482-2C6F8C7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7970-712D-44A3-BD3E-F8031E8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DFDD-7DD2-4142-AA43-BB82B68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A9E2-05B5-4709-B459-ACFDBEB8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624B6-A5F2-42CB-AD37-86CA922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819E-4624-4743-B69B-4F4DCFF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2309-DB21-4E24-8AEA-244D855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836-3BA3-474A-9F3E-2A4EB6B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16420-0BB2-4481-A559-1F909291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5704-BAEB-4388-9CA5-B88F31C2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A48F-65A0-4A78-B3D9-A77B615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9759-6ECF-4B10-A47B-8B3E33C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C43B-E9F3-4BEE-9300-9E4ED8A5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37AE-3EC5-4A50-8EBA-30B6359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6B60-497C-49E0-92B4-29DBBB4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5111-B2C9-4AFE-9304-BF569C7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0B69-3515-4DA8-B3D8-0B7FD7D1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C577-E87A-4F8E-BE6F-0E322E6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95E-ACB3-4FD0-ABF4-70FEC02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F1F46-3816-4380-8AAC-156E16F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749B4-3CD1-4723-B48C-BD691831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603D-F00A-4FF6-9E4E-C9E21F3B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3A1-C703-4A69-A10E-884B471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E25-FE2E-4900-A9B0-657DC7D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0BA2-40CA-4EF6-8084-3D572A6627F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3DEB-38DA-4789-BCB5-CB7D642226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445-F886-4FF6-A20C-04CDC1FB500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012-6BAC-44AC-9D32-B0B9962FC16C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5E56-1B56-4878-BF15-0646EF19D23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3475-1F59-41A6-92AC-56E423599F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11A-8127-4C7B-AC09-F43E38917C1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8963-8F47-4010-BD9C-1AD7379304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5453-6FD3-4469-976F-78ED574E1DC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50C2-F941-4AD9-9714-886E5C4250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6D79-6864-4FBA-99F4-0BA4C663161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5CE3-3CD0-47DA-BA2C-5CB82F3C14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Outubr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nov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150596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44908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92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-28440" y="1685880"/>
            <a:ext cx="121917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916280"/>
            <a:ext cx="121921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1921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12-04T14:13:02Z</dcterms:modified>
  <cp:revision>444</cp:revision>
  <dc:subject/>
  <dc:title>Demografia</dc:title>
</cp:coreProperties>
</file>